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F3C-C946-41C0-9641-DC2332DF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6DD-41B8-4219-B402-43945C4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F00-FB7B-4F7E-A608-DEF4A688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A8D-50DD-4A5D-A8AB-A9CE6B08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4F1-9417-43F3-9740-D61177BC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893-580D-4D5B-95D5-BF69D4FA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978-A831-4F3C-A02F-56F863BD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8D6-6ADC-4266-97A0-3ACADF0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A9D-9817-433E-99FD-EF5B874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623-D75A-40AE-9ADE-AE17E7D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0D8-9B17-4E2A-82A1-4ED20D7A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15A-EF3B-448C-A331-5C9A982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BC4-F174-4351-BE9A-380639478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    your     text     here.</a:t>
            </a:r>
            <a:r>
              <a:rPr b="0" lang="en-US" sz="6000" spc="-1" strike="noStrike">
                <a:solidFill>
                  <a:srgbClr val="000000"/>
                </a:solidFill>
                <a:latin typeface="DJ Bang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2:41:14Z</dcterms:created>
  <dc:creator>Teacher</dc:creator>
  <dc:description/>
  <dc:language>en-US</dc:language>
  <cp:lastModifiedBy>Frisco ISD</cp:lastModifiedBy>
  <dcterms:modified xsi:type="dcterms:W3CDTF">2004-12-06T23:31:03Z</dcterms:modified>
  <cp:revision>8</cp:revision>
  <dc:subject/>
  <dc:title>I   See   Blue</dc:title>
</cp:coreProperties>
</file>